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0BB-620D-43AA-899B-40A1D7B3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2D2-63D1-4A0C-9FE2-1E24468D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4D4-44A0-49F6-A26E-EAB70E96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05D-4DC0-473B-A2C8-8D0C801F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9D97-2EE9-431B-AE2D-A45CC5FB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CE3B-4DCD-415D-8599-654BE9A6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1082-074A-4E2F-8B43-85B5218C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7A5F-263B-4D2F-AEFE-1FCC4938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6084-199C-4CDF-9761-761E2EB3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897D-8422-4062-8608-F2B4656E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A923-9DE8-4E41-BFCF-B0C1A4A5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BD3-2764-4B0B-AD7E-4CA6F461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D2A3-A1FB-4C79-9C16-4AD84C01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1F5E-7E20-4D0A-8828-6068DED1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A45B-1584-45EE-A764-BD2E7F74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D83F-02D1-4022-A26D-411C537E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9712-3464-40FF-AE7B-DAD22895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AE8-B0B0-40FC-8FF1-8692FB88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209-F3B1-48AE-A266-70EFDC74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DCB-AB85-4C2E-AAA5-CE465EA6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7AC-16E9-47AE-B555-53C147DA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43C-C72B-4230-9361-6DDB52AE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BA7-7F2F-41E8-A0DF-BAB94D98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D21-1D56-42C0-BEA6-0DEE2C0D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CC7D-EF46-4F1B-88DE-C0FA30E71B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7333-708C-493A-AC7F-3A00B17FB2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e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Searc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Validity of Websi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Scanning Web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canning Websi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you want a website to be scan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makes information in a website easier to fin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rmally you don’t want to read the whole website, just the info pertaining to your need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you can’t find the info you need quickly, you will leave the website and search for another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elps make website scan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NB (links taking you to other parts of the sit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lleted lis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asy to read tex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ld word to stick out from the rest of the tex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rnet Search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search eng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 application that searches for and retrieves data based on some criteria. (Especially one that searches the Internet for documents containing specified words.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different search engines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oogle, Yahoo, Bing, Ask Jeeves,MSN, AOL, etc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use a Search Eng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 that are contempor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dern top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Internet has more up-to-date information on current even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 that are controvers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Internet can give you a lot of different opinions on one topic. It can help you research a topic from different perspectiv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fferences between Web Sources and Book Sour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_s1030"/>
          <p:cNvSpPr/>
          <p:nvPr/>
        </p:nvSpPr>
        <p:spPr>
          <a:xfrm>
            <a:off x="304920" y="2057400"/>
            <a:ext cx="5182920" cy="4119480"/>
          </a:xfrm>
          <a:prstGeom prst="ellipse">
            <a:avLst/>
          </a:prstGeom>
          <a:solidFill>
            <a:srgbClr val="6767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_s1030"/>
          <p:cNvSpPr/>
          <p:nvPr/>
        </p:nvSpPr>
        <p:spPr>
          <a:xfrm>
            <a:off x="3733920" y="2133720"/>
            <a:ext cx="4952880" cy="4043160"/>
          </a:xfrm>
          <a:prstGeom prst="ellipse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_s1031"/>
          <p:cNvSpPr/>
          <p:nvPr/>
        </p:nvSpPr>
        <p:spPr>
          <a:xfrm>
            <a:off x="2133720" y="1752480"/>
            <a:ext cx="11379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_s1029"/>
          <p:cNvSpPr/>
          <p:nvPr/>
        </p:nvSpPr>
        <p:spPr>
          <a:xfrm>
            <a:off x="5486400" y="1828800"/>
            <a:ext cx="136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ooks/Tex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590920"/>
            <a:ext cx="2590920" cy="32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one can publish a Web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ne checks to see if the information is true or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millions of places to look for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the Internet is much qui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can narrow down what you’re looking for more eas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ternet uses search eng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590920"/>
            <a:ext cx="259092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book has to be published by a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ors check and verify th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king for a book can be more time consu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have to visit a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ibrary uses the Dewey Decimal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3505320"/>
            <a:ext cx="17524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provide 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are viewed b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lions of people e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to Search using a Search Eng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ain words you are searching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monly used words that will cause too many hits.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n’t use stop words in your search crite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at are the effects of global warming on agricul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words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ffects, global warming, agricul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op words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, are, the, of, 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fferent Ways to 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only one of the keywords need to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oth keywords need to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Most search engines automatically do a search first matching containing both keywords and later matching containing only one of the keywo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word Keyword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keywords must be found as typed with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 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E: you may have more then 2 keywords with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”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– Keyword must be found ( South +Dako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– Keyword excluded (South –Dako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: keyword – Bring up different web definitions for the keyw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rning, you need to choose the correct words meaning for your task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alidity of Website Inform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because something is posted to the web, it doesn’t make it true or accu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he source? Is it a person, a group, a business, government, wikiped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source have a slanted point of view? Do they have an agenda to promo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updates? Is it ver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putation of the sou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can verify the information from several other websites or from book/text sources, then the information if val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Current is Information on Websi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topics, current information makes a differen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should have a date stamp of when information was upd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te your Websou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formation should be sited.  Copy and paste the web address to verify you won’t have a ty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ictures should be sited to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ver use a search engine as a 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search engine is how you found the info/picture, but it is not where it resides.  The true website should be listed within the search engine’s li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8:06:40Z</dcterms:created>
  <dc:creator>wiesel</dc:creator>
  <dc:description/>
  <dc:language>en-US</dc:language>
  <cp:lastModifiedBy>wiesel</cp:lastModifiedBy>
  <dcterms:modified xsi:type="dcterms:W3CDTF">2010-04-06T20:29:11Z</dcterms:modified>
  <cp:revision>23</cp:revision>
  <dc:subject/>
  <dc:title>Internet Searching Validity of Website Scanning Websites</dc:title>
</cp:coreProperties>
</file>